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BB67B-1EBC-4829-B724-C0066650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6D484-5744-464A-BD53-9535A419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F9447-5B35-4424-B004-32BBE5D18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46954-9F38-4369-AEF6-86B33E0F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AE13-80EE-4483-B274-6CB06DFC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6E4C-0F00-4C91-AD2E-FD1AB857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CBE8-848B-497A-8BD2-FA4827A6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C760-E629-4D3B-B6B0-3CBF660B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265B-EA4B-4052-86B9-AB498C10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7D6F-4378-4512-B349-5CC2E017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5426-92D6-4C0D-99E4-BCF8CCE0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96AA9-29E0-4655-A1C0-126367F8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5CAA-8DA0-42CC-8926-98D5E563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FECD-A8AF-42B9-972F-0A451547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E5D9-13FC-42A3-A299-57C389FF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E723-E0EB-4B27-85A6-AD7E7FA7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A36D-5867-4A7E-AA76-1FA0C452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3BEA3-A5D1-4386-B2B2-31522909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7A571-DB17-44FC-AB1B-9D89B07A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5452F-A8FB-4619-BC3F-20D4997F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95491-A496-4669-91D8-ECDB1BCD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DED6B-0604-4B8A-9365-C882D2E8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F66AD-CF85-4AEC-9CC8-C6F37089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763F3-C415-4B1B-9753-0EABD6B6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A637-45AA-4D76-8CD8-C152D31AA6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0493-D976-45BF-86B4-381210E6FA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BEN FRANKLIN THE MOVI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: Anthony, Jacob, and Jud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he invent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 invented swimming fi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 developed fire departme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62520" y="1806480"/>
            <a:ext cx="1808280" cy="1771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191120" y="3276720"/>
            <a:ext cx="140796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s job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05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 was a... writer, printer, scientist, inventor, and a statesma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19920" y="1447920"/>
            <a:ext cx="1825560" cy="1522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791320" y="3505320"/>
            <a:ext cx="2303280" cy="3066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85800" y="3581280"/>
            <a:ext cx="3505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ere he was bor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n was born in Boston, New England in 1657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486400" y="2590920"/>
            <a:ext cx="2311560" cy="2847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’s Da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n’s dad was a soap and candle mak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946840" y="1600200"/>
            <a:ext cx="1439640" cy="2187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4572000" cy="150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’s Hou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46479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E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out Ben we would not have many of the things we have now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81080" y="3657600"/>
            <a:ext cx="1592280" cy="1785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715000" y="2743200"/>
            <a:ext cx="15494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15:32:36Z</dcterms:created>
  <dc:creator>Montour School District</dc:creator>
  <dc:description/>
  <dc:language>en-US</dc:language>
  <cp:lastModifiedBy>Montour School District</cp:lastModifiedBy>
  <dcterms:modified xsi:type="dcterms:W3CDTF">2008-05-22T13:09:09Z</dcterms:modified>
  <cp:revision>12</cp:revision>
  <dc:subject/>
  <dc:title>BEN FRANKLIN THE MOVIE</dc:title>
</cp:coreProperties>
</file>